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2720" y="393984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748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0292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6348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272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0292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6348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42720" y="280800"/>
            <a:ext cx="845964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748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42720" y="393984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748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0292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6348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4272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0292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6348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42720" y="280800"/>
            <a:ext cx="845964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748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lick to edit the title text format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Click to edit the outline text format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1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econd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2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Third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3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Four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4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Fif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5" marL="315360" indent="-31536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ix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6" marL="315360" indent="-31536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even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pic>
        <p:nvPicPr>
          <p:cNvPr id="2" name="Picture 14" descr=""/>
          <p:cNvPicPr/>
          <p:nvPr/>
        </p:nvPicPr>
        <p:blipFill>
          <a:blip r:embed="rId2"/>
          <a:stretch/>
        </p:blipFill>
        <p:spPr>
          <a:xfrm>
            <a:off x="318960" y="608328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3" name="Text Box 18"/>
          <p:cNvSpPr/>
          <p:nvPr/>
        </p:nvSpPr>
        <p:spPr>
          <a:xfrm>
            <a:off x="6442200" y="6229440"/>
            <a:ext cx="245556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5F32-2418-4492-85DC-5F2FF47DABE9}" type="slidenum">
              <a:rPr b="0" lang="en-US" sz="900" spc="-1" strike="noStrike">
                <a:solidFill>
                  <a:srgbClr val="1e4191"/>
                </a:solidFill>
                <a:latin typeface="GE Inspira Pitch"/>
              </a:rPr>
              <a:t>&lt;number&gt;</a:t>
            </a:fld>
            <a:endParaRPr b="0" lang="en-US" sz="900" spc="-1" strike="noStrike">
              <a:solidFill>
                <a:srgbClr val="1e4191"/>
              </a:solidFill>
              <a:latin typeface="GE Inspira Pitch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e4191"/>
                </a:solidFill>
                <a:latin typeface="GE Inspira Pitch"/>
              </a:rPr>
              <a:t> </a:t>
            </a:r>
            <a:r>
              <a:rPr b="0" lang="en-US" sz="900" spc="-1" strike="noStrike">
                <a:solidFill>
                  <a:srgbClr val="1e4191"/>
                </a:solidFill>
                <a:latin typeface="GE Inspira Pitch"/>
              </a:rPr>
              <a:t>Presenter and Event</a:t>
            </a:r>
            <a:endParaRPr b="0" lang="en-US" sz="900" spc="-1" strike="noStrike">
              <a:solidFill>
                <a:srgbClr val="1e4191"/>
              </a:solidFill>
              <a:latin typeface="GE Inspira Pitch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3867-0E56-47C8-A13C-EC2274AA4907}" type="datetime">
              <a:rPr b="0" lang="en-US" sz="900" spc="-1" strike="noStrike">
                <a:solidFill>
                  <a:srgbClr val="1e4191"/>
                </a:solidFill>
                <a:latin typeface="GE Inspira Pitch"/>
              </a:rPr>
              <a:t>07/29/26</a:t>
            </a:fld>
            <a:endParaRPr b="0" lang="en-US" sz="9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1" descr=""/>
          <p:cNvPicPr/>
          <p:nvPr/>
        </p:nvPicPr>
        <p:blipFill>
          <a:blip r:embed="rId2"/>
          <a:stretch/>
        </p:blipFill>
        <p:spPr>
          <a:xfrm>
            <a:off x="272880" y="5803920"/>
            <a:ext cx="2486160" cy="7812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lick to edit the title text format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Click to edit the outline text format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1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econd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2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Third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3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Four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4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Fif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5" marL="315360" indent="-31536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ix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6" marL="315360" indent="-31536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even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77640" y="297648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ore Viewer </a:t>
            </a:r>
            <a:br>
              <a:rPr sz="4000"/>
            </a:b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Annotation Definition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1"/>
          <p:cNvGrpSpPr/>
          <p:nvPr/>
        </p:nvGrpSpPr>
        <p:grpSpPr>
          <a:xfrm>
            <a:off x="25560" y="382680"/>
            <a:ext cx="9118440" cy="6218280"/>
            <a:chOff x="25560" y="382680"/>
            <a:chExt cx="9118440" cy="6218280"/>
          </a:xfrm>
        </p:grpSpPr>
        <p:sp>
          <p:nvSpPr>
            <p:cNvPr id="123" name="Rectangle 4"/>
            <p:cNvSpPr/>
            <p:nvPr/>
          </p:nvSpPr>
          <p:spPr>
            <a:xfrm>
              <a:off x="111240" y="442800"/>
              <a:ext cx="5029200" cy="323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Amanufacturer + AModelName + AStation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ystem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ASe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AIm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APlan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– A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AT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AMENCFactor + ACPh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8 – Aflow + Abvalu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9 – AprepPuls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BolusChasing + EchoTrn + Ainterleaves + AViewPerSeg + ARapidFrame + Athreshold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– AProjectionAngles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4" name="Rectangle 5"/>
            <p:cNvSpPr/>
            <p:nvPr/>
          </p:nvSpPr>
          <p:spPr>
            <a:xfrm>
              <a:off x="5140440" y="442800"/>
              <a:ext cx="3752640" cy="323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Short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AAcq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AzoomFacto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currentFL (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ROT (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viewFilterTyp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1 – ArepPixR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2 – ArepPixA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3 – ArepPixS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4 – ArepPixV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5 – AMT8 (geometry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6 – AVL1 (Graphic_Results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7 – AVL2 (Graphic_Results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8 – AVL3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9 - AVL4 (Graphic_Results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5" name="Rectangle 6"/>
            <p:cNvSpPr/>
            <p:nvPr/>
          </p:nvSpPr>
          <p:spPr>
            <a:xfrm>
              <a:off x="111240" y="3678120"/>
              <a:ext cx="5029200" cy="292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0 – APsdAnnot + ASequenceName + ASequenceVariant + AScanSequence + AFlipAngl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9 - AT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8 – AT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AEchoNum + Abandwidth + ARcvrTyp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AInv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ACType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+ AFilter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AFO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AThk + ASpac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Thick_Spac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AScanLocation +AScantime + APausetime +  ANum3Dslabs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AAcquisitionMatrix + ANumAverag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ASeSpecAcq + AScanOptions + ASeDesc + ARampedDirection  +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Tagg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6" name="Rectangle 7"/>
            <p:cNvSpPr/>
            <p:nvPr/>
          </p:nvSpPr>
          <p:spPr>
            <a:xfrm>
              <a:off x="5140440" y="3678120"/>
              <a:ext cx="3752640" cy="292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– ARTTimer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tiltAverag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MagTranOffse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FreqDir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AWindowWidth + AWindowLevel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7" name="Text Box 8"/>
            <p:cNvSpPr/>
            <p:nvPr/>
          </p:nvSpPr>
          <p:spPr>
            <a:xfrm>
              <a:off x="4459320" y="6354720"/>
              <a:ext cx="1817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8" name="Text Box 9"/>
            <p:cNvSpPr/>
            <p:nvPr/>
          </p:nvSpPr>
          <p:spPr>
            <a:xfrm>
              <a:off x="4442040" y="382680"/>
              <a:ext cx="1684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9" name="Text Box 10"/>
            <p:cNvSpPr/>
            <p:nvPr/>
          </p:nvSpPr>
          <p:spPr>
            <a:xfrm>
              <a:off x="7423200" y="355608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30" name="Text Box 11"/>
            <p:cNvSpPr/>
            <p:nvPr/>
          </p:nvSpPr>
          <p:spPr>
            <a:xfrm>
              <a:off x="25560" y="354024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31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MR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MR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76320" y="581040"/>
          <a:ext cx="3303720" cy="499572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hick_Spac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eport_Curso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bottom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34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1"/>
          <p:cNvGrpSpPr/>
          <p:nvPr/>
        </p:nvGrpSpPr>
        <p:grpSpPr>
          <a:xfrm>
            <a:off x="25560" y="382680"/>
            <a:ext cx="9118440" cy="5762520"/>
            <a:chOff x="25560" y="382680"/>
            <a:chExt cx="9118440" cy="5762520"/>
          </a:xfrm>
        </p:grpSpPr>
        <p:sp>
          <p:nvSpPr>
            <p:cNvPr id="136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AManufacturer + AModelName + AStation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ystem_Name)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ASe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AAnatomicalRef + ASliceLocatio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AIm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–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AfovVal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AConvolutionKernel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8 – AHeartRat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9 – ASpecialReconAlgorithm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repPixR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– ArepPixA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2 – ArepPixS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– ArepPixV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37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Short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ImageHeight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EkgGatingType  + cardiacReco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zoomFactor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FL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currentROT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1 – AviewFilterType (Filter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38" name="Rectangle 6"/>
            <p:cNvSpPr/>
            <p:nvPr/>
          </p:nvSpPr>
          <p:spPr>
            <a:xfrm>
              <a:off x="111240" y="3164040"/>
              <a:ext cx="5029200" cy="296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8 – AMaterialTyp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AKvolt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ACurren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ASmartMamp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ASFO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ASlThick + APitch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AGanTil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AScanOptions (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AWindowWidth + AWindowLevel (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39" name="Rectangle 7"/>
            <p:cNvSpPr/>
            <p:nvPr/>
          </p:nvSpPr>
          <p:spPr>
            <a:xfrm>
              <a:off x="5140440" y="3164040"/>
              <a:ext cx="3752640" cy="296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ARoiResult96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ARoiResult97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RoiResult98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ARoiResult99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40" name="Text Box 8"/>
            <p:cNvSpPr/>
            <p:nvPr/>
          </p:nvSpPr>
          <p:spPr>
            <a:xfrm>
              <a:off x="3865680" y="5289840"/>
              <a:ext cx="2260440" cy="85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-3 - ASub_Optimall_Q_String or imageCheck_flag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41" name="Text Box 9"/>
            <p:cNvSpPr/>
            <p:nvPr/>
          </p:nvSpPr>
          <p:spPr>
            <a:xfrm>
              <a:off x="4442040" y="382680"/>
              <a:ext cx="1684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42" name="Text Box 10"/>
            <p:cNvSpPr/>
            <p:nvPr/>
          </p:nvSpPr>
          <p:spPr>
            <a:xfrm>
              <a:off x="7423200" y="303696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43" name="Text Box 11"/>
            <p:cNvSpPr/>
            <p:nvPr/>
          </p:nvSpPr>
          <p:spPr>
            <a:xfrm>
              <a:off x="25560" y="302112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44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T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76320" y="581040"/>
          <a:ext cx="3303720" cy="499572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View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isplay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eport_Curso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Filt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47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1"/>
          <p:cNvGrpSpPr/>
          <p:nvPr/>
        </p:nvGrpSpPr>
        <p:grpSpPr>
          <a:xfrm>
            <a:off x="25560" y="382680"/>
            <a:ext cx="9118440" cy="5747040"/>
            <a:chOff x="25560" y="382680"/>
            <a:chExt cx="9118440" cy="5747040"/>
          </a:xfrm>
        </p:grpSpPr>
        <p:sp>
          <p:nvSpPr>
            <p:cNvPr id="149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AManufacturer +  AStation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ystem_Name)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ASe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AIm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8 – AHeartRat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repPixR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– ArepPixA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2 – ArepPixS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– ArepPixV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0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PatientName(Patient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ImageDims(Display_Parameter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zoomFactor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FL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currentROT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1 – AviewFilterType (Scan_Parameters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1" name="Rectangle 6"/>
            <p:cNvSpPr/>
            <p:nvPr/>
          </p:nvSpPr>
          <p:spPr>
            <a:xfrm>
              <a:off x="111240" y="3164040"/>
              <a:ext cx="5029200" cy="296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AKvolt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ACurren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zimuth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cqDateTim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AWindowWidth + AWindowLevel (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2" name="Rectangle 7"/>
            <p:cNvSpPr/>
            <p:nvPr/>
          </p:nvSpPr>
          <p:spPr>
            <a:xfrm>
              <a:off x="5140440" y="3164040"/>
              <a:ext cx="3752640" cy="296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ARoiResult96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ARoiResult97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RoiResult98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ARoiResult99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3" name="Text Box 8"/>
            <p:cNvSpPr/>
            <p:nvPr/>
          </p:nvSpPr>
          <p:spPr>
            <a:xfrm>
              <a:off x="3865680" y="5883480"/>
              <a:ext cx="22604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4" name="Text Box 9"/>
            <p:cNvSpPr/>
            <p:nvPr/>
          </p:nvSpPr>
          <p:spPr>
            <a:xfrm>
              <a:off x="4442040" y="382680"/>
              <a:ext cx="1684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5" name="Text Box 10"/>
            <p:cNvSpPr/>
            <p:nvPr/>
          </p:nvSpPr>
          <p:spPr>
            <a:xfrm>
              <a:off x="7423200" y="303696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6" name="Text Box 11"/>
            <p:cNvSpPr/>
            <p:nvPr/>
          </p:nvSpPr>
          <p:spPr>
            <a:xfrm>
              <a:off x="25560" y="302112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57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CT Scou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T Scout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976320" y="581040"/>
          <a:ext cx="3303720" cy="451800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View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eport_Curso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60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1"/>
          <p:cNvGrpSpPr/>
          <p:nvPr/>
        </p:nvGrpSpPr>
        <p:grpSpPr>
          <a:xfrm>
            <a:off x="25560" y="442800"/>
            <a:ext cx="9118440" cy="5688360"/>
            <a:chOff x="25560" y="442800"/>
            <a:chExt cx="9118440" cy="5688360"/>
          </a:xfrm>
        </p:grpSpPr>
        <p:sp>
          <p:nvSpPr>
            <p:cNvPr id="162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AManufacturer + AStation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ystem_Name)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ASe +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serieTyp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AAnatomicalRef + ASliceLocatio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AIm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AfovVal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reconAlg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8 – AHeartRate 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geometry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repPixR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– ArepPixA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2 – ArepPixS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– ArepPixV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3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ScanTimeOfDay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Scan_Tim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cardiacReco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geometry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zoomFactor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FL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currentROT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1 – AviewFilterType (Filter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4" name="Rectangle 6"/>
            <p:cNvSpPr/>
            <p:nvPr/>
          </p:nvSpPr>
          <p:spPr>
            <a:xfrm>
              <a:off x="111240" y="3163680"/>
              <a:ext cx="502920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AKvolt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trace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randoms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IWidthScanTyp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isplay_Parameter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du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SeriesDescription (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framebin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WindowMi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+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WindowMax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5" name="Rectangle 7"/>
            <p:cNvSpPr/>
            <p:nvPr/>
          </p:nvSpPr>
          <p:spPr>
            <a:xfrm>
              <a:off x="5140440" y="3163680"/>
              <a:ext cx="375264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TimeFromInject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Scan_Parameter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ARoiResult99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4384800" y="5884920"/>
              <a:ext cx="1817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4442040" y="453600"/>
              <a:ext cx="1684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7423200" y="303696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25560" y="302112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70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P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PT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976320" y="581040"/>
          <a:ext cx="3303720" cy="523548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View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isplay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eport_Curso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Filt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</a:tbl>
          </a:graphicData>
        </a:graphic>
      </p:graphicFrame>
      <p:sp>
        <p:nvSpPr>
          <p:cNvPr id="173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1"/>
          <p:cNvGrpSpPr/>
          <p:nvPr/>
        </p:nvGrpSpPr>
        <p:grpSpPr>
          <a:xfrm>
            <a:off x="111240" y="442800"/>
            <a:ext cx="8781840" cy="5686560"/>
            <a:chOff x="111240" y="442800"/>
            <a:chExt cx="8781840" cy="5686560"/>
          </a:xfrm>
        </p:grpSpPr>
        <p:sp>
          <p:nvSpPr>
            <p:cNvPr id="175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AcqDate + dispAcqTime 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cqInfo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Dob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PatName + dispPatientId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AccessionNum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Study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76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HospitalNam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Hospital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PatientDose + dispDoseProduct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TubeCurrent + dispKvp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ExposureMs + dispExposureMas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UnCompDetExposure + CompDetExposur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etExposureIndex  + DetExposureRang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77" name="Rectangle 6"/>
            <p:cNvSpPr/>
            <p:nvPr/>
          </p:nvSpPr>
          <p:spPr>
            <a:xfrm>
              <a:off x="111240" y="3163680"/>
              <a:ext cx="502920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RAClassificatio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RRA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ProcessingType + dispEdg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rocessing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ProcessingDate + dispProcessingTim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rocessing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Laterality + dispAnatomicalView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natomy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SliceHeight + dispSliceInterval + dispSamplingFacto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rocessing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78" name="Rectangle 7"/>
            <p:cNvSpPr/>
            <p:nvPr/>
          </p:nvSpPr>
          <p:spPr>
            <a:xfrm>
              <a:off x="5140440" y="3163680"/>
              <a:ext cx="375264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5 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4 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3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2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1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WindowWidth + dispWindowLevel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isplayParam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Zoom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isplayParam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79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DX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DX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76320" y="581040"/>
          <a:ext cx="3303720" cy="308304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os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q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roess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Measuremen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isplayParam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natomy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tudy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Image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eries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RA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82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77640" y="297648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ore Viewer 3D Annotation Style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111240" y="442800"/>
            <a:ext cx="8781840" cy="5686560"/>
            <a:chOff x="111240" y="442800"/>
            <a:chExt cx="8781840" cy="5686560"/>
          </a:xfrm>
        </p:grpSpPr>
        <p:sp>
          <p:nvSpPr>
            <p:cNvPr id="184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LongPatientNam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– APhysicianName (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PatientID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_Id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Procedure_Protocol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 -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Comments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patdob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ccessionNumbe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ccession_Number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Sex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85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HospName (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2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cqDate (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3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cqTime (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zoomFactor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FL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currentROT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86" name="Rectangle 6"/>
            <p:cNvSpPr/>
            <p:nvPr/>
          </p:nvSpPr>
          <p:spPr>
            <a:xfrm>
              <a:off x="111240" y="3163680"/>
              <a:ext cx="502920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kvolt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1e4191"/>
                  </a:solidFill>
                  <a:latin typeface="Times New Roman"/>
                </a:rPr>
                <a:t>SW -5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current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Im (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1e4191"/>
                  </a:solidFill>
                  <a:latin typeface="Times New Roman"/>
                </a:rPr>
                <a:t>SW 0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FrameIndex / numFrames  [NAT|SUB]  (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87" name="Rectangle 7"/>
            <p:cNvSpPr/>
            <p:nvPr/>
          </p:nvSpPr>
          <p:spPr>
            <a:xfrm>
              <a:off x="5140440" y="3163680"/>
              <a:ext cx="375264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WindowWidth  + AWindowCenter (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88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XA,RF,CR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XA, RF, CR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76320" y="581040"/>
          <a:ext cx="3303720" cy="284328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View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</a:tbl>
          </a:graphicData>
        </a:graphic>
      </p:graphicFrame>
      <p:sp>
        <p:nvSpPr>
          <p:cNvPr id="191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77640" y="297648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Backup Material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0" y="600120"/>
            <a:ext cx="9144000" cy="5025960"/>
            <a:chOff x="0" y="600120"/>
            <a:chExt cx="9144000" cy="5025960"/>
          </a:xfrm>
        </p:grpSpPr>
        <p:sp>
          <p:nvSpPr>
            <p:cNvPr id="194" name="Rectangle 3"/>
            <p:cNvSpPr/>
            <p:nvPr/>
          </p:nvSpPr>
          <p:spPr>
            <a:xfrm>
              <a:off x="209520" y="600120"/>
              <a:ext cx="455616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- viewType + volume + series2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eries_Data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ex_n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+ accession#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se_no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lice loc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im_n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– dfo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recon algo + ph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avg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5" name="Rectangle 4"/>
            <p:cNvSpPr/>
            <p:nvPr/>
          </p:nvSpPr>
          <p:spPr>
            <a:xfrm>
              <a:off x="4757760" y="60012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1 – 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- sex + age + 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- acq 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– Segment anno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- cardiacRecon OR compressio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6" name="Rectangle 5"/>
            <p:cNvSpPr/>
            <p:nvPr/>
          </p:nvSpPr>
          <p:spPr>
            <a:xfrm>
              <a:off x="209520" y="3084480"/>
              <a:ext cx="454824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2 – angl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9 - slice thickness + render mod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smart ma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k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ma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scan rot speed + rot type +  table spee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native sl thk (SP) + spac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+ pitch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gantry tilt + hi res + gsi prese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- study 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7" name="Rectangle 6"/>
            <p:cNvSpPr/>
            <p:nvPr/>
          </p:nvSpPr>
          <p:spPr>
            <a:xfrm>
              <a:off x="4757760" y="308448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blend ratio3 + blend type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VOI blend ratio + selected voi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- blend ratio1/ layer1/ type1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- wwL2 + wlL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8" name="Text Box 7"/>
            <p:cNvSpPr/>
            <p:nvPr/>
          </p:nvSpPr>
          <p:spPr>
            <a:xfrm>
              <a:off x="3957480" y="5227560"/>
              <a:ext cx="19670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-1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not for diagnosis msg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9" name="Text Box 8"/>
            <p:cNvSpPr/>
            <p:nvPr/>
          </p:nvSpPr>
          <p:spPr>
            <a:xfrm>
              <a:off x="4046400" y="723960"/>
              <a:ext cx="16844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1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0" name="Text Box 9"/>
            <p:cNvSpPr/>
            <p:nvPr/>
          </p:nvSpPr>
          <p:spPr>
            <a:xfrm>
              <a:off x="7423200" y="299736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1" name="Text Box 10"/>
            <p:cNvSpPr/>
            <p:nvPr/>
          </p:nvSpPr>
          <p:spPr>
            <a:xfrm>
              <a:off x="0" y="301140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202" name="Text Box 11"/>
          <p:cNvSpPr/>
          <p:nvPr/>
        </p:nvSpPr>
        <p:spPr>
          <a:xfrm>
            <a:off x="89280" y="96840"/>
            <a:ext cx="33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GSI Viewer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0"/>
          <p:cNvSpPr/>
          <p:nvPr/>
        </p:nvSpPr>
        <p:spPr>
          <a:xfrm>
            <a:off x="109080" y="96840"/>
            <a:ext cx="28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DMPR1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204" name="Group 20"/>
          <p:cNvGrpSpPr/>
          <p:nvPr/>
        </p:nvGrpSpPr>
        <p:grpSpPr>
          <a:xfrm>
            <a:off x="0" y="685800"/>
            <a:ext cx="9144000" cy="5322960"/>
            <a:chOff x="0" y="685800"/>
            <a:chExt cx="9144000" cy="5322960"/>
          </a:xfrm>
        </p:grpSpPr>
        <p:sp>
          <p:nvSpPr>
            <p:cNvPr id="205" name="Rectangle 11"/>
            <p:cNvSpPr/>
            <p:nvPr/>
          </p:nvSpPr>
          <p:spPr>
            <a:xfrm>
              <a:off x="209520" y="685800"/>
              <a:ext cx="455616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- vavViewType (ESI 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ModelName + " SYS#" + stationName (System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ex_no (ESI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se_type (ESI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vavImageLocation (ESI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- vavRenderType (ESI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DFOV (Scan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- reconflag (Scan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9 - vavAcquisitionStatus (Scan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0 - avgHeartRate (ScanBottom) OR reportPixel_R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- rPeakDelay (ScanBottom) OR reportPixel_A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2 - reportPixel_S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- reportPixel_V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6" name="Rectangle 12"/>
            <p:cNvSpPr/>
            <p:nvPr/>
          </p:nvSpPr>
          <p:spPr>
            <a:xfrm>
              <a:off x="4757760" y="685800"/>
              <a:ext cx="413532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- hospname (Hospital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1 - Accession Number (AccNumb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- patientName (Patient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patid (Patient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- birthDate (DateOfBirth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cq_datetime (Date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zoomFactor (ViewParameters) OR cardiacRecon (Scan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8 - Flip position (View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9 - Rotation Angle (View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10 - filter + GSE (ImageGeometry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7" name="Rectangle 13"/>
            <p:cNvSpPr/>
            <p:nvPr/>
          </p:nvSpPr>
          <p:spPr>
            <a:xfrm>
              <a:off x="209520" y="3348000"/>
              <a:ext cx="4548240" cy="266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8 - vavImageThickness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kv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- ma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- noiseIndex + SmartMA + npAutomAMode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sfov + sfov type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slice thickness + table speed + helical scan mode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gantry tilt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- rotationtime + acq_datetime + deltastart + tempResolution (ScanTimeOfDa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(Windowing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8" name="Rectangle 14"/>
            <p:cNvSpPr/>
            <p:nvPr/>
          </p:nvSpPr>
          <p:spPr>
            <a:xfrm>
              <a:off x="4757760" y="3348000"/>
              <a:ext cx="4135320" cy="266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1 (GraphicAnnotation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2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3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-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9" name="Text Box 15"/>
            <p:cNvSpPr/>
            <p:nvPr/>
          </p:nvSpPr>
          <p:spPr>
            <a:xfrm>
              <a:off x="4184640" y="5751360"/>
              <a:ext cx="17892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1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0" name="Text Box 16"/>
            <p:cNvSpPr/>
            <p:nvPr/>
          </p:nvSpPr>
          <p:spPr>
            <a:xfrm>
              <a:off x="4046400" y="817560"/>
              <a:ext cx="1694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1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1" name="Text Box 17"/>
            <p:cNvSpPr/>
            <p:nvPr/>
          </p:nvSpPr>
          <p:spPr>
            <a:xfrm>
              <a:off x="7451640" y="3254400"/>
              <a:ext cx="169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1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0" y="3271680"/>
              <a:ext cx="17002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1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68400" y="96840"/>
            <a:ext cx="39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Volume Viewer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214" name="Group 21"/>
          <p:cNvGrpSpPr/>
          <p:nvPr/>
        </p:nvGrpSpPr>
        <p:grpSpPr>
          <a:xfrm>
            <a:off x="158760" y="714240"/>
            <a:ext cx="8985240" cy="5112000"/>
            <a:chOff x="158760" y="714240"/>
            <a:chExt cx="8985240" cy="5112000"/>
          </a:xfrm>
        </p:grpSpPr>
        <p:sp>
          <p:nvSpPr>
            <p:cNvPr id="215" name="Rectangle 12"/>
            <p:cNvSpPr/>
            <p:nvPr/>
          </p:nvSpPr>
          <p:spPr>
            <a:xfrm>
              <a:off x="365040" y="714240"/>
              <a:ext cx="447696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- ViewTyp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ex_no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se_typ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sliceLocation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DFOV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- ConvolutionKernel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6" name="Rectangle 13"/>
            <p:cNvSpPr/>
            <p:nvPr/>
          </p:nvSpPr>
          <p:spPr>
            <a:xfrm>
              <a:off x="4834080" y="714240"/>
              <a:ext cx="406368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- hospname (Hospital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1 - patientName (Patient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- sex + age + patid (PatientID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birthDate (DateOfBirth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- acq_datetime (Date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1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2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3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4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5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6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7" name="Rectangle 14"/>
            <p:cNvSpPr/>
            <p:nvPr/>
          </p:nvSpPr>
          <p:spPr>
            <a:xfrm>
              <a:off x="365040" y="3164040"/>
              <a:ext cx="446904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slice thickness / Render Mod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- kv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- ma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rotationtime + deltastar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pitch / slice spacing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gantry tilt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- acq_datetim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(Windowing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8" name="Rectangle 15"/>
            <p:cNvSpPr/>
            <p:nvPr/>
          </p:nvSpPr>
          <p:spPr>
            <a:xfrm>
              <a:off x="4834080" y="3164040"/>
              <a:ext cx="406368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1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0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9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-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9" name="Text Box 16"/>
            <p:cNvSpPr/>
            <p:nvPr/>
          </p:nvSpPr>
          <p:spPr>
            <a:xfrm>
              <a:off x="4214880" y="5440320"/>
              <a:ext cx="18144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0" name="Text Box 17"/>
            <p:cNvSpPr/>
            <p:nvPr/>
          </p:nvSpPr>
          <p:spPr>
            <a:xfrm>
              <a:off x="4135320" y="722160"/>
              <a:ext cx="16495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1" name="Text Box 18"/>
            <p:cNvSpPr/>
            <p:nvPr/>
          </p:nvSpPr>
          <p:spPr>
            <a:xfrm>
              <a:off x="7369200" y="3078000"/>
              <a:ext cx="1774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2" name="Text Box 19"/>
            <p:cNvSpPr/>
            <p:nvPr/>
          </p:nvSpPr>
          <p:spPr>
            <a:xfrm>
              <a:off x="158760" y="3092400"/>
              <a:ext cx="16686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68040" y="96840"/>
            <a:ext cx="40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Volume Viewer MR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224" name="Group 21"/>
          <p:cNvGrpSpPr/>
          <p:nvPr/>
        </p:nvGrpSpPr>
        <p:grpSpPr>
          <a:xfrm>
            <a:off x="158760" y="714240"/>
            <a:ext cx="8985240" cy="5113800"/>
            <a:chOff x="158760" y="714240"/>
            <a:chExt cx="8985240" cy="5113800"/>
          </a:xfrm>
        </p:grpSpPr>
        <p:sp>
          <p:nvSpPr>
            <p:cNvPr id="225" name="Rectangle 12"/>
            <p:cNvSpPr/>
            <p:nvPr/>
          </p:nvSpPr>
          <p:spPr>
            <a:xfrm>
              <a:off x="365040" y="714240"/>
              <a:ext cx="447696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0 – ViewType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ex_no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se_typ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– Im #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6 - sliceLocation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11 - E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- ConvolutionKernel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6" name="Rectangle 13"/>
            <p:cNvSpPr/>
            <p:nvPr/>
          </p:nvSpPr>
          <p:spPr>
            <a:xfrm>
              <a:off x="4834080" y="714240"/>
              <a:ext cx="406368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- hospnam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E 1 – patientName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- sex + age + patid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DoB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- acq_date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5 - ??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7" name="Rectangle 14"/>
            <p:cNvSpPr/>
            <p:nvPr/>
          </p:nvSpPr>
          <p:spPr>
            <a:xfrm>
              <a:off x="365040" y="3164040"/>
              <a:ext cx="446904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1 – acquisition matrix / NE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0 – scan tim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-9 – slice thickness /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pacing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  Render Mode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-8 – DFOV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Coil Typ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- EC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T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TR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model nam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imaging options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8" name="Rectangle 15"/>
            <p:cNvSpPr/>
            <p:nvPr/>
          </p:nvSpPr>
          <p:spPr>
            <a:xfrm>
              <a:off x="4834080" y="3164040"/>
              <a:ext cx="406368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9" name="Text Box 16"/>
            <p:cNvSpPr/>
            <p:nvPr/>
          </p:nvSpPr>
          <p:spPr>
            <a:xfrm>
              <a:off x="4135320" y="5581800"/>
              <a:ext cx="2016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S 0 - rasSouth (BottomMarker)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30" name="Text Box 17"/>
            <p:cNvSpPr/>
            <p:nvPr/>
          </p:nvSpPr>
          <p:spPr>
            <a:xfrm>
              <a:off x="3824280" y="722160"/>
              <a:ext cx="20779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N 0 - rasNorth (TopMarker)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31" name="Text Box 18"/>
            <p:cNvSpPr/>
            <p:nvPr/>
          </p:nvSpPr>
          <p:spPr>
            <a:xfrm>
              <a:off x="7219800" y="3078000"/>
              <a:ext cx="19242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32" name="Text Box 19"/>
            <p:cNvSpPr/>
            <p:nvPr/>
          </p:nvSpPr>
          <p:spPr>
            <a:xfrm>
              <a:off x="158760" y="3092400"/>
              <a:ext cx="19177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233" name="Rectangle 1"/>
          <p:cNvSpPr/>
          <p:nvPr/>
        </p:nvSpPr>
        <p:spPr>
          <a:xfrm>
            <a:off x="3557880" y="5975280"/>
            <a:ext cx="274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– partial annotation items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4191"/>
                </a:solidFill>
                <a:latin typeface="Times New Roman"/>
              </a:rPr>
              <a:t>Bold Annotations </a:t>
            </a:r>
            <a:r>
              <a:rPr b="0" lang="en-US" sz="1800" spc="-1" strike="noStrike">
                <a:solidFill>
                  <a:srgbClr val="1e4191"/>
                </a:solidFill>
                <a:latin typeface="Times New Roman"/>
              </a:rPr>
              <a:t>- active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1"/>
          <p:cNvGrpSpPr/>
          <p:nvPr/>
        </p:nvGrpSpPr>
        <p:grpSpPr>
          <a:xfrm>
            <a:off x="0" y="600120"/>
            <a:ext cx="9144000" cy="4974120"/>
            <a:chOff x="0" y="600120"/>
            <a:chExt cx="9144000" cy="4974120"/>
          </a:xfrm>
        </p:grpSpPr>
        <p:sp>
          <p:nvSpPr>
            <p:cNvPr id="82" name="Rectangle 4"/>
            <p:cNvSpPr/>
            <p:nvPr/>
          </p:nvSpPr>
          <p:spPr>
            <a:xfrm>
              <a:off x="209520" y="600120"/>
              <a:ext cx="455616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0 – viewType (geomtery) + volume + series2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eries_Data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manufacturer + AModelName + AStationName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System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ex_n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4 - slice loc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5 - im_no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6 – dfov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- recon algo + ph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– avg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3" name="Rectangle 5"/>
            <p:cNvSpPr/>
            <p:nvPr/>
          </p:nvSpPr>
          <p:spPr>
            <a:xfrm>
              <a:off x="4757760" y="60012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ccession#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sex + age + 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cq 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Segment anno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cardiacRecon + compressio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4" name="Rectangle 6"/>
            <p:cNvSpPr/>
            <p:nvPr/>
          </p:nvSpPr>
          <p:spPr>
            <a:xfrm>
              <a:off x="209520" y="3084480"/>
              <a:ext cx="454824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2 – angl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-9 - slice thickness /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pacing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 + render mode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smart ma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k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ma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scan rot speed + rot type +  table spee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native sl thk (SP) + pitch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gantry tilt + hi res + gsi prese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- study 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5" name="Rectangle 7"/>
            <p:cNvSpPr/>
            <p:nvPr/>
          </p:nvSpPr>
          <p:spPr>
            <a:xfrm>
              <a:off x="4757760" y="308448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blend ratio3 + blend type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VOI blend ratio + selected voi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- blend ratio1/ layer1/ type1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- wwL2 + wlL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3776400" y="5328000"/>
              <a:ext cx="19544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S 0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7" name="Text Box 9"/>
            <p:cNvSpPr/>
            <p:nvPr/>
          </p:nvSpPr>
          <p:spPr>
            <a:xfrm>
              <a:off x="4046400" y="601560"/>
              <a:ext cx="1819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N 0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7291440" y="2997360"/>
              <a:ext cx="18525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9" name="Text Box 11"/>
            <p:cNvSpPr/>
            <p:nvPr/>
          </p:nvSpPr>
          <p:spPr>
            <a:xfrm>
              <a:off x="0" y="3011400"/>
              <a:ext cx="1793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90" name="Text Box 13"/>
          <p:cNvSpPr/>
          <p:nvPr/>
        </p:nvSpPr>
        <p:spPr>
          <a:xfrm>
            <a:off x="222120" y="9684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3D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T 3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76320" y="581040"/>
          <a:ext cx="3303720" cy="475776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Detail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eries_Data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</a:tbl>
          </a:graphicData>
        </a:graphic>
      </p:graphicFrame>
      <p:sp>
        <p:nvSpPr>
          <p:cNvPr id="93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1"/>
          <p:cNvGrpSpPr/>
          <p:nvPr/>
        </p:nvGrpSpPr>
        <p:grpSpPr>
          <a:xfrm>
            <a:off x="98280" y="600120"/>
            <a:ext cx="9045720" cy="4974120"/>
            <a:chOff x="98280" y="600120"/>
            <a:chExt cx="9045720" cy="4974120"/>
          </a:xfrm>
        </p:grpSpPr>
        <p:sp>
          <p:nvSpPr>
            <p:cNvPr id="95" name="Rectangle 4"/>
            <p:cNvSpPr/>
            <p:nvPr/>
          </p:nvSpPr>
          <p:spPr>
            <a:xfrm>
              <a:off x="209160" y="600120"/>
              <a:ext cx="455616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0 – viewType (geomtery) + volu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manufacturer + AModelName + AStationName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System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ex_n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4 - slice loc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5 - im_no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6 – dfov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- recon alg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– avg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96" name="Rectangle 5"/>
            <p:cNvSpPr/>
            <p:nvPr/>
          </p:nvSpPr>
          <p:spPr>
            <a:xfrm>
              <a:off x="4757760" y="60012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ccession#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sex + age + 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cq 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Scan Time Of Day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97" name="Rectangle 6"/>
            <p:cNvSpPr/>
            <p:nvPr/>
          </p:nvSpPr>
          <p:spPr>
            <a:xfrm>
              <a:off x="209160" y="3084480"/>
              <a:ext cx="454824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-9 - </a:t>
              </a:r>
              <a:r>
                <a:rPr b="1" lang="en-US" sz="1000" spc="-1" strike="noStrike">
                  <a:solidFill>
                    <a:srgbClr val="1e4191"/>
                  </a:solidFill>
                  <a:latin typeface="GE Inspira Pitch"/>
                </a:rPr>
                <a:t>slice thickness /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spacing</a:t>
              </a:r>
              <a:r>
                <a:rPr b="1" lang="en-US" sz="1000" spc="-1" strike="noStrike">
                  <a:solidFill>
                    <a:srgbClr val="1e4191"/>
                  </a:solidFill>
                  <a:latin typeface="GE Inspira Pitch"/>
                </a:rPr>
                <a:t>  +  render mode 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(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kvolt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trace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randoms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IWidthScanTyp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Du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SeriesDescriptio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framebi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window width2 + window level2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**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98" name="Rectangle 7"/>
            <p:cNvSpPr/>
            <p:nvPr/>
          </p:nvSpPr>
          <p:spPr>
            <a:xfrm>
              <a:off x="4757760" y="308448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TimeFromInject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 (Scan_Parameter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E 0 - Wmin + Wmax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99" name="Text Box 8"/>
            <p:cNvSpPr/>
            <p:nvPr/>
          </p:nvSpPr>
          <p:spPr>
            <a:xfrm>
              <a:off x="3902040" y="5328000"/>
              <a:ext cx="19760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S 0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00" name="Text Box 9"/>
            <p:cNvSpPr/>
            <p:nvPr/>
          </p:nvSpPr>
          <p:spPr>
            <a:xfrm>
              <a:off x="4046400" y="601560"/>
              <a:ext cx="18316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N 0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01" name="Text Box 10"/>
            <p:cNvSpPr/>
            <p:nvPr/>
          </p:nvSpPr>
          <p:spPr>
            <a:xfrm>
              <a:off x="7243920" y="2959200"/>
              <a:ext cx="1900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02" name="Text Box 11"/>
            <p:cNvSpPr/>
            <p:nvPr/>
          </p:nvSpPr>
          <p:spPr>
            <a:xfrm>
              <a:off x="98280" y="2975040"/>
              <a:ext cx="18727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03" name="Text Box 13"/>
          <p:cNvSpPr/>
          <p:nvPr/>
        </p:nvSpPr>
        <p:spPr>
          <a:xfrm>
            <a:off x="222120" y="9684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3D PE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04" name="TextBox 1"/>
          <p:cNvSpPr/>
          <p:nvPr/>
        </p:nvSpPr>
        <p:spPr>
          <a:xfrm>
            <a:off x="2078280" y="5861160"/>
            <a:ext cx="49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** Only in CT-PT fused view for second layer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PT 3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976320" y="581040"/>
          <a:ext cx="3303720" cy="499572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Detail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isplay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eries_Data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07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3"/>
          <p:cNvSpPr/>
          <p:nvPr/>
        </p:nvSpPr>
        <p:spPr>
          <a:xfrm>
            <a:off x="222120" y="9684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3D MR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109" name="Group 1"/>
          <p:cNvGrpSpPr/>
          <p:nvPr/>
        </p:nvGrpSpPr>
        <p:grpSpPr>
          <a:xfrm>
            <a:off x="42840" y="441360"/>
            <a:ext cx="9118800" cy="6218280"/>
            <a:chOff x="42840" y="441360"/>
            <a:chExt cx="9118800" cy="6218280"/>
          </a:xfrm>
        </p:grpSpPr>
        <p:sp>
          <p:nvSpPr>
            <p:cNvPr id="110" name="Rectangle 4"/>
            <p:cNvSpPr/>
            <p:nvPr/>
          </p:nvSpPr>
          <p:spPr>
            <a:xfrm>
              <a:off x="128520" y="501480"/>
              <a:ext cx="5029200" cy="323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0 – viewType (geomerty)+ volu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eries_Data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manufacturer + AModelName + AStationName (System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– 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4 – Slice Location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5 - AIm +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Contast 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NW 6 -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dfov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A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- AT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9 – AMENCFactor + ACPh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flow + Abvalu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1 – AprepPuls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2 – ABolusChasing + EchoTrn + Ainterleaves + AViewPerSeg + ARapidFrame + Athreshold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– AProjectionAngles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1" name="Rectangle 5"/>
            <p:cNvSpPr/>
            <p:nvPr/>
          </p:nvSpPr>
          <p:spPr>
            <a:xfrm>
              <a:off x="5157720" y="501480"/>
              <a:ext cx="3753000" cy="323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Short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AAcq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2" name="Rectangle 6"/>
            <p:cNvSpPr/>
            <p:nvPr/>
          </p:nvSpPr>
          <p:spPr>
            <a:xfrm>
              <a:off x="128520" y="3737880"/>
              <a:ext cx="5029200" cy="292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9 - slice thickness /spacing  +  render mode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8 – APsdAnnot + ASequenceName + ASequenceVariant + AScanSequence + AFlipAngl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AT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AT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AEchoNum + Abandwidth + ARcvrTyp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AInv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ACType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+ AFilter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AScanLocation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 +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Scantime + APausetime +  ANum3Dslabs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AAcquisitionMatrix + ANumAverag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ASeSpecAcq + AScanOptions + ASeDesc + ARampedDirection  +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Tagg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3" name="Rectangle 7"/>
            <p:cNvSpPr/>
            <p:nvPr/>
          </p:nvSpPr>
          <p:spPr>
            <a:xfrm>
              <a:off x="5157720" y="3737880"/>
              <a:ext cx="3753000" cy="292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– ARTTimer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tiltAverag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MagTranOffse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FreqDir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E 0 – AWindowWidth + AWindowLevel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4" name="Text Box 8"/>
            <p:cNvSpPr/>
            <p:nvPr/>
          </p:nvSpPr>
          <p:spPr>
            <a:xfrm>
              <a:off x="4482360" y="6259680"/>
              <a:ext cx="118440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5" name="Text Box 9"/>
            <p:cNvSpPr/>
            <p:nvPr/>
          </p:nvSpPr>
          <p:spPr>
            <a:xfrm>
              <a:off x="4315680" y="441360"/>
              <a:ext cx="16844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6" name="Text Box 10"/>
            <p:cNvSpPr/>
            <p:nvPr/>
          </p:nvSpPr>
          <p:spPr>
            <a:xfrm>
              <a:off x="7326360" y="3615480"/>
              <a:ext cx="18352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7" name="Text Box 11"/>
            <p:cNvSpPr/>
            <p:nvPr/>
          </p:nvSpPr>
          <p:spPr>
            <a:xfrm>
              <a:off x="42840" y="3599640"/>
              <a:ext cx="19036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MR 3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76320" y="676440"/>
          <a:ext cx="3303720" cy="475596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bottom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6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eries_Data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77640" y="297648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ore Viewer 2D Annotation Style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6T08:52:22Z</dcterms:created>
  <dc:creator>Authorized User</dc:creator>
  <dc:description>General Electric Company 2004</dc:description>
  <cp:keywords>September 22 2004 – Version 1.1</cp:keywords>
  <dc:language>en-US</dc:language>
  <cp:lastModifiedBy>ritus</cp:lastModifiedBy>
  <cp:lastPrinted>2003-08-29T14:38:12Z</cp:lastPrinted>
  <dcterms:modified xsi:type="dcterms:W3CDTF">2012-03-02T07:22:53Z</dcterms:modified>
  <cp:revision>3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alette">
    <vt:lpwstr>GE Template</vt:lpwstr>
  </property>
</Properties>
</file>